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6941913692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6</c:v>
                </c:pt>
                <c:pt idx="5">
                  <c:v>0</c:v>
                </c:pt>
                <c:pt idx="6">
                  <c:v>1</c:v>
                </c:pt>
                <c:pt idx="7">
                  <c:v>5</c:v>
                </c:pt>
                <c:pt idx="8">
                  <c:v>0</c:v>
                </c:pt>
                <c:pt idx="9">
                  <c:v>5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30982367758186</c:v>
                </c:pt>
                <c:pt idx="1">
                  <c:v>4.79596977329975</c:v>
                </c:pt>
                <c:pt idx="2">
                  <c:v>12.8463476070529</c:v>
                </c:pt>
                <c:pt idx="3">
                  <c:v>11.3047858942065</c:v>
                </c:pt>
                <c:pt idx="4">
                  <c:v>7.02267002518892</c:v>
                </c:pt>
                <c:pt idx="5">
                  <c:v>7.02267002518892</c:v>
                </c:pt>
                <c:pt idx="6">
                  <c:v>4.45340050377834</c:v>
                </c:pt>
                <c:pt idx="7">
                  <c:v>5.65239294710327</c:v>
                </c:pt>
                <c:pt idx="8">
                  <c:v>1.37027707808564</c:v>
                </c:pt>
                <c:pt idx="9">
                  <c:v>1.71284634760705</c:v>
                </c:pt>
                <c:pt idx="10">
                  <c:v>1.71284634760705</c:v>
                </c:pt>
                <c:pt idx="11">
                  <c:v>1.37027707808564</c:v>
                </c:pt>
                <c:pt idx="12">
                  <c:v>0.685138539042821</c:v>
                </c:pt>
                <c:pt idx="13">
                  <c:v>0.685138539042821</c:v>
                </c:pt>
                <c:pt idx="14">
                  <c:v>1.54156171284635</c:v>
                </c:pt>
                <c:pt idx="15">
                  <c:v>0.513853904282116</c:v>
                </c:pt>
              </c:numCache>
            </c:numRef>
          </c:val>
        </c:ser>
        <c:gapWidth val="100"/>
        <c:overlap val="0"/>
        <c:axId val="3480708"/>
        <c:axId val="89188160"/>
      </c:barChart>
      <c:catAx>
        <c:axId val="34807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88160"/>
        <c:crossesAt val="0"/>
        <c:auto val="1"/>
        <c:lblAlgn val="ctr"/>
        <c:lblOffset val="100"/>
        <c:noMultiLvlLbl val="0"/>
      </c:catAx>
      <c:valAx>
        <c:axId val="89188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070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5830407537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1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4130982367758</c:v>
                </c:pt>
                <c:pt idx="1">
                  <c:v>4.3727959697733</c:v>
                </c:pt>
                <c:pt idx="2">
                  <c:v>11.7128463476071</c:v>
                </c:pt>
                <c:pt idx="3">
                  <c:v>10.3073047858942</c:v>
                </c:pt>
                <c:pt idx="4">
                  <c:v>6.40302267002519</c:v>
                </c:pt>
                <c:pt idx="5">
                  <c:v>6.40302267002519</c:v>
                </c:pt>
                <c:pt idx="6">
                  <c:v>4.06045340050378</c:v>
                </c:pt>
                <c:pt idx="7">
                  <c:v>5.1536523929471</c:v>
                </c:pt>
                <c:pt idx="8">
                  <c:v>1.24937027707809</c:v>
                </c:pt>
                <c:pt idx="9">
                  <c:v>1.56171284634761</c:v>
                </c:pt>
                <c:pt idx="10">
                  <c:v>1.56171284634761</c:v>
                </c:pt>
                <c:pt idx="11">
                  <c:v>1.24937027707809</c:v>
                </c:pt>
                <c:pt idx="12">
                  <c:v>0.624685138539043</c:v>
                </c:pt>
                <c:pt idx="13">
                  <c:v>0.624685138539043</c:v>
                </c:pt>
                <c:pt idx="14">
                  <c:v>1.40554156171285</c:v>
                </c:pt>
                <c:pt idx="15">
                  <c:v>0.468513853904282</c:v>
                </c:pt>
              </c:numCache>
            </c:numRef>
          </c:val>
        </c:ser>
        <c:gapWidth val="100"/>
        <c:overlap val="0"/>
        <c:axId val="42863778"/>
        <c:axId val="16932663"/>
      </c:barChart>
      <c:catAx>
        <c:axId val="428637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2663"/>
        <c:crossesAt val="0"/>
        <c:auto val="1"/>
        <c:lblAlgn val="ctr"/>
        <c:lblOffset val="100"/>
        <c:noMultiLvlLbl val="0"/>
      </c:catAx>
      <c:valAx>
        <c:axId val="16932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637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20274654459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</c:v>
                </c:pt>
                <c:pt idx="3">
                  <c:v>1</c:v>
                </c:pt>
                <c:pt idx="4">
                  <c:v>11</c:v>
                </c:pt>
                <c:pt idx="5">
                  <c:v>5</c:v>
                </c:pt>
                <c:pt idx="6">
                  <c:v>0</c:v>
                </c:pt>
                <c:pt idx="7">
                  <c:v>6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2216624685139</c:v>
                </c:pt>
                <c:pt idx="1">
                  <c:v>5.07808564231738</c:v>
                </c:pt>
                <c:pt idx="2">
                  <c:v>13.6020151133501</c:v>
                </c:pt>
                <c:pt idx="3">
                  <c:v>11.9697732997481</c:v>
                </c:pt>
                <c:pt idx="4">
                  <c:v>7.43576826196474</c:v>
                </c:pt>
                <c:pt idx="5">
                  <c:v>7.43576826196474</c:v>
                </c:pt>
                <c:pt idx="6">
                  <c:v>4.71536523929471</c:v>
                </c:pt>
                <c:pt idx="7">
                  <c:v>5.98488664987406</c:v>
                </c:pt>
                <c:pt idx="8">
                  <c:v>1.45088161209068</c:v>
                </c:pt>
                <c:pt idx="9">
                  <c:v>1.81360201511335</c:v>
                </c:pt>
                <c:pt idx="10">
                  <c:v>1.81360201511335</c:v>
                </c:pt>
                <c:pt idx="11">
                  <c:v>1.45088161209068</c:v>
                </c:pt>
                <c:pt idx="12">
                  <c:v>0.72544080604534</c:v>
                </c:pt>
                <c:pt idx="13">
                  <c:v>0.72544080604534</c:v>
                </c:pt>
                <c:pt idx="14">
                  <c:v>1.63224181360202</c:v>
                </c:pt>
                <c:pt idx="15">
                  <c:v>0.544080604534005</c:v>
                </c:pt>
              </c:numCache>
            </c:numRef>
          </c:val>
        </c:ser>
        <c:gapWidth val="100"/>
        <c:overlap val="0"/>
        <c:axId val="32885221"/>
        <c:axId val="20670588"/>
      </c:barChart>
      <c:catAx>
        <c:axId val="328852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70588"/>
        <c:crossesAt val="0"/>
        <c:auto val="1"/>
        <c:lblAlgn val="ctr"/>
        <c:lblOffset val="100"/>
        <c:noMultiLvlLbl val="0"/>
      </c:catAx>
      <c:valAx>
        <c:axId val="20670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8522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4589800443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2"/>
          <c:y val="0.209223847019123"/>
          <c:w val="0.959911308203991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2</c:v>
                </c:pt>
                <c:pt idx="3">
                  <c:v>3</c:v>
                </c:pt>
                <c:pt idx="4">
                  <c:v>0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50503944"/>
        <c:axId val="83922866"/>
      </c:barChart>
      <c:catAx>
        <c:axId val="505039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22866"/>
        <c:crossesAt val="0"/>
        <c:auto val="1"/>
        <c:lblAlgn val="ctr"/>
        <c:lblOffset val="100"/>
        <c:noMultiLvlLbl val="0"/>
      </c:catAx>
      <c:valAx>
        <c:axId val="83922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394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2558108528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8</c:v>
                </c:pt>
                <c:pt idx="3">
                  <c:v>7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51880997"/>
        <c:axId val="9277397"/>
      </c:barChart>
      <c:catAx>
        <c:axId val="5188099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7397"/>
        <c:crossesAt val="0"/>
        <c:auto val="1"/>
        <c:lblAlgn val="ctr"/>
        <c:lblOffset val="100"/>
        <c:noMultiLvlLbl val="0"/>
      </c:catAx>
      <c:valAx>
        <c:axId val="9277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8099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70023554509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7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389830508474</c:v>
                </c:pt>
                <c:pt idx="1">
                  <c:v>5.6135593220339</c:v>
                </c:pt>
                <c:pt idx="2">
                  <c:v>15.3762711864407</c:v>
                </c:pt>
                <c:pt idx="3">
                  <c:v>13.9118644067797</c:v>
                </c:pt>
                <c:pt idx="4">
                  <c:v>7.32203389830508</c:v>
                </c:pt>
                <c:pt idx="5">
                  <c:v>7.32203389830508</c:v>
                </c:pt>
                <c:pt idx="6">
                  <c:v>3.41694915254237</c:v>
                </c:pt>
                <c:pt idx="7">
                  <c:v>6.83389830508475</c:v>
                </c:pt>
                <c:pt idx="8">
                  <c:v>0.488135593220339</c:v>
                </c:pt>
                <c:pt idx="9">
                  <c:v>0.732203389830508</c:v>
                </c:pt>
                <c:pt idx="10">
                  <c:v>0.488135593220339</c:v>
                </c:pt>
                <c:pt idx="11">
                  <c:v>0.488135593220339</c:v>
                </c:pt>
                <c:pt idx="12">
                  <c:v>0.244067796610169</c:v>
                </c:pt>
                <c:pt idx="13">
                  <c:v>0.244067796610169</c:v>
                </c:pt>
                <c:pt idx="14">
                  <c:v>1.46440677966102</c:v>
                </c:pt>
                <c:pt idx="15">
                  <c:v>1.22033898305085</c:v>
                </c:pt>
              </c:numCache>
            </c:numRef>
          </c:val>
        </c:ser>
        <c:gapWidth val="100"/>
        <c:overlap val="0"/>
        <c:axId val="88995554"/>
        <c:axId val="18622548"/>
      </c:barChart>
      <c:catAx>
        <c:axId val="889955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2548"/>
        <c:crossesAt val="0"/>
        <c:auto val="1"/>
        <c:lblAlgn val="ctr"/>
        <c:lblOffset val="100"/>
        <c:noMultiLvlLbl val="0"/>
      </c:catAx>
      <c:valAx>
        <c:axId val="18622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9555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4</c:v>
                </c:pt>
                <c:pt idx="3">
                  <c:v>3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9</c:v>
                </c:pt>
                <c:pt idx="10">
                  <c:v>6</c:v>
                </c:pt>
                <c:pt idx="11">
                  <c:v>8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72</c:v>
                </c:pt>
                <c:pt idx="1">
                  <c:v>2.72</c:v>
                </c:pt>
                <c:pt idx="2">
                  <c:v>8.16</c:v>
                </c:pt>
                <c:pt idx="3">
                  <c:v>8.16</c:v>
                </c:pt>
                <c:pt idx="4">
                  <c:v>5.44</c:v>
                </c:pt>
                <c:pt idx="5">
                  <c:v>5.44</c:v>
                </c:pt>
                <c:pt idx="6">
                  <c:v>5.44</c:v>
                </c:pt>
                <c:pt idx="7">
                  <c:v>0</c:v>
                </c:pt>
                <c:pt idx="8">
                  <c:v>5.44</c:v>
                </c:pt>
                <c:pt idx="9">
                  <c:v>6.8</c:v>
                </c:pt>
                <c:pt idx="10">
                  <c:v>6.8</c:v>
                </c:pt>
                <c:pt idx="11">
                  <c:v>5.44</c:v>
                </c:pt>
                <c:pt idx="12">
                  <c:v>4.08</c:v>
                </c:pt>
                <c:pt idx="13">
                  <c:v>1.3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077367"/>
        <c:axId val="3690654"/>
      </c:barChart>
      <c:catAx>
        <c:axId val="507736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0654"/>
        <c:crossesAt val="0"/>
        <c:auto val="1"/>
        <c:lblAlgn val="ctr"/>
        <c:lblOffset val="100"/>
        <c:noMultiLvlLbl val="0"/>
      </c:catAx>
      <c:valAx>
        <c:axId val="3690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736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6</c:v>
                </c:pt>
                <c:pt idx="10">
                  <c:v>3</c:v>
                </c:pt>
                <c:pt idx="11">
                  <c:v>7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8</c:v>
                </c:pt>
                <c:pt idx="1">
                  <c:v>2.48</c:v>
                </c:pt>
                <c:pt idx="2">
                  <c:v>7.44</c:v>
                </c:pt>
                <c:pt idx="3">
                  <c:v>7.44</c:v>
                </c:pt>
                <c:pt idx="4">
                  <c:v>4.96</c:v>
                </c:pt>
                <c:pt idx="5">
                  <c:v>4.96</c:v>
                </c:pt>
                <c:pt idx="6">
                  <c:v>4.96</c:v>
                </c:pt>
                <c:pt idx="7">
                  <c:v>0</c:v>
                </c:pt>
                <c:pt idx="8">
                  <c:v>4.96</c:v>
                </c:pt>
                <c:pt idx="9">
                  <c:v>6.2</c:v>
                </c:pt>
                <c:pt idx="10">
                  <c:v>6.2</c:v>
                </c:pt>
                <c:pt idx="11">
                  <c:v>4.96</c:v>
                </c:pt>
                <c:pt idx="12">
                  <c:v>3.72</c:v>
                </c:pt>
                <c:pt idx="13">
                  <c:v>1.2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754944"/>
        <c:axId val="58112703"/>
      </c:barChart>
      <c:catAx>
        <c:axId val="97549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12703"/>
        <c:crossesAt val="0"/>
        <c:auto val="1"/>
        <c:lblAlgn val="ctr"/>
        <c:lblOffset val="100"/>
        <c:noMultiLvlLbl val="0"/>
      </c:catAx>
      <c:valAx>
        <c:axId val="58112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494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915070441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6</c:v>
                </c:pt>
                <c:pt idx="11">
                  <c:v>9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44</c:v>
                </c:pt>
                <c:pt idx="1">
                  <c:v>1.44</c:v>
                </c:pt>
                <c:pt idx="2">
                  <c:v>4.32</c:v>
                </c:pt>
                <c:pt idx="3">
                  <c:v>4.32</c:v>
                </c:pt>
                <c:pt idx="4">
                  <c:v>2.88</c:v>
                </c:pt>
                <c:pt idx="5">
                  <c:v>2.88</c:v>
                </c:pt>
                <c:pt idx="6">
                  <c:v>2.88</c:v>
                </c:pt>
                <c:pt idx="7">
                  <c:v>0</c:v>
                </c:pt>
                <c:pt idx="8">
                  <c:v>2.88</c:v>
                </c:pt>
                <c:pt idx="9">
                  <c:v>3.6</c:v>
                </c:pt>
                <c:pt idx="10">
                  <c:v>3.6</c:v>
                </c:pt>
                <c:pt idx="11">
                  <c:v>2.88</c:v>
                </c:pt>
                <c:pt idx="12">
                  <c:v>2.16</c:v>
                </c:pt>
                <c:pt idx="13">
                  <c:v>0.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4209252"/>
        <c:axId val="82970170"/>
      </c:barChart>
      <c:catAx>
        <c:axId val="8420925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70170"/>
        <c:crossesAt val="0"/>
        <c:auto val="1"/>
        <c:lblAlgn val="ctr"/>
        <c:lblOffset val="100"/>
        <c:noMultiLvlLbl val="0"/>
      </c:catAx>
      <c:valAx>
        <c:axId val="82970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925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8C8D-4C16-4858-915B-2C54CEE9F5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2DC-7F72-47F7-917C-58F1323110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FE4-CB49-4643-83DA-02C9B487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E3E-FC84-42B8-8D70-747B3D60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C58-2AD7-4292-B63A-A00371A8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067-FAB4-4C8E-8072-8EA081A6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A89-4591-494D-9C4C-C2127F9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0BC-0BE9-44FE-BE10-5FD50CC5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E58-249C-4881-BCC1-907173E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E63-6384-4D90-9D7C-9A058E24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83C-056F-4CB2-967A-7A3280B5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3CB-16A3-4D25-8B84-C6DB820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C2A-D472-4697-9E82-76F0EAD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138-CD3E-4062-8266-5E16C2E5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D96B-948E-4DD6-B202-EA91A6FF5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4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5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6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8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E SEN. FILINTO MULLER  ANGÉLICA 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MIRKO DONISETE RODRIGUES BAR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00040" y="2214720"/>
          <a:ext cx="81183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4" descr=""/>
          <p:cNvPicPr/>
          <p:nvPr/>
        </p:nvPicPr>
        <p:blipFill>
          <a:blip r:embed="rId5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36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428920" y="5143680"/>
          <a:ext cx="3811680" cy="114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4" descr=""/>
          <p:cNvPicPr/>
          <p:nvPr/>
        </p:nvPicPr>
        <p:blipFill>
          <a:blip r:embed="rId5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4" descr=""/>
          <p:cNvPicPr/>
          <p:nvPr/>
        </p:nvPicPr>
        <p:blipFill>
          <a:blip r:embed="rId5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THIAGO DA SILVA NAN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571680" y="2214720"/>
          <a:ext cx="81007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3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5000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0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858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7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4" descr=""/>
          <p:cNvPicPr/>
          <p:nvPr/>
        </p:nvPicPr>
        <p:blipFill>
          <a:blip r:embed="rId5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Quim/ Lit/ Fil/ Soc/ Ed. Rel/ Prod. Int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 His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70,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29,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Hist/ Fil/ Soc/ Ed. Rel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Ed. Fís/ Artes/ Port/ 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64,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35,5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Fís/ Geo/ Inglês/ Ciências/ Quim/ Fil/ Soc/ Ed. Rel.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 / Fís/ L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9,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0,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A PATRÍCIA BOGAZ TREV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357120" y="2214720"/>
          <a:ext cx="8286840" cy="2928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2428920" y="5214960"/>
          <a:ext cx="3811680" cy="116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214960"/>
                    <a:ext cx="3811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57160" y="2214720"/>
          <a:ext cx="71438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2643120" y="5143680"/>
          <a:ext cx="3811680" cy="126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143680"/>
                    <a:ext cx="381168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7" descr=""/>
          <p:cNvPicPr/>
          <p:nvPr/>
        </p:nvPicPr>
        <p:blipFill>
          <a:blip r:embed="rId5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285840" y="214308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19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571840" y="5072040"/>
          <a:ext cx="3811320" cy="123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1840" y="5072040"/>
                    <a:ext cx="38113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7" descr=""/>
          <p:cNvPicPr/>
          <p:nvPr/>
        </p:nvPicPr>
        <p:blipFill>
          <a:blip r:embed="rId5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SEDMS</cp:lastModifiedBy>
  <dcterms:modified xsi:type="dcterms:W3CDTF">2009-07-24T20:18:18Z</dcterms:modified>
  <cp:revision>52</cp:revision>
  <dc:subject/>
  <dc:title>EE LUIZ SOARES ANDRADE  NOVA ANDRADINA - MS</dc:title>
</cp:coreProperties>
</file>